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F5BD-F161-494A-8A88-0D2A9352A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057A-19D9-495C-9B8A-4A91B312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32F0-A23F-4C9D-8C01-A16B777F5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8194-4EB9-4D6C-8E0A-92B3F051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02DF8-F73E-4825-8E23-9A40926DE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0F267-FC7E-4F09-9825-A45710BF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E2D7A-D499-483F-9A5A-A1D9771B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CC4F1-29E4-49E0-8254-1E629A7E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904B8-2C33-42FB-8372-10828AA2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A9A63-1B05-4DE9-82C1-CE4C238E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E7BC0-4286-4BCD-88AF-214B1FF3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0F88-5DD8-4264-885C-3ED84AD1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38875-FE29-4EA5-8E03-EB04B4A6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6645A-664D-4FD4-A1E0-245532F8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73992-5443-4719-ADA5-102DB58F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57C1A-1A60-45E3-B807-663C6B0C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DBC9E-E038-4269-A0FD-52C4B3E1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B536-AE39-4553-8381-C89A3BAF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F6B2-9F1F-4C19-B5AC-4B91A395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A3F7-02E2-4E62-A420-01A3DB10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551F-DEAA-4D28-AF46-F4FBA11D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6EA7-F8A0-4F8A-9D16-5A8BC873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AA9C-3CE4-4545-B9DF-F88A3F0A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ED0F-6048-42E2-B19C-5078B1FD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D9BF-090B-488E-B60F-D15DC885E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FBA7-2CA0-4666-8159-C1605F3BC1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2590920" y="5335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09480" y="1676520"/>
            <a:ext cx="655344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erstand Net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erstand IP Addressing (IPv4 and IPv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erstand Subnet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 addressing and Vlan’s in TIF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FR network dia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 allocation in TIF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ent IP database maintenance in TIF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expected out of this projec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Addressing  </a:t>
            </a: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twork Address Range: Class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24-2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twork Address Range: Class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40-25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Addressing  </a:t>
            </a: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ivate IP address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           Reserved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 A       10.0.0.0 to 10.255.255.25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 B       172.16.0.0 to 172.31.255.25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 C       192.168.0.0 to 192.168.255.25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Subnet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need for Subnet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Subnetting (cont.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ubnetting IP Addres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ubnetting all you need to do is answer five simple ques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any subnets does the chosen subnet mask produ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any valid hosts per subnet are availab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valid subne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’s the broadcast address of each subne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valid hosts in each subne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Subnetting (cont.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ow many subne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^x= number of subnets. X is the number of masked bits or the 1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11000000 = 2^2 = 4 subn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ow many hosts per subn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^y = number of hosts per subnet. Here y is the number of unmasked bits or 0’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11000000 = 2^6 = 64 h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at are the valid subne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56-subnet mask = block size or increment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256-192 = 64 So the valid subnets are 0, 64, 128, 19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Subnetting (cont.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Subnetting (cont.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’s the broadcast address for each subnet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st IP of each subnet is the broadcast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valid hosts in each subn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^y-2 = number of hosts per subnet. Here y is the number of unmasked bits or 0’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11000000 = 2^6-2 = 64-2 = 62 usable h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Subnetting (cont.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cti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lass 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&gt; Subnet Mask = 255.255.255.128 (/2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 = 192.168.10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wer: Binary of 128 is 10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nc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any subnet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^x = 2^1 = 2             where x is the number of 1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any usable hosts per subne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^y-2 = 2^7-2 = 128-2 = 126         where y is the number of 0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valid subne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6-128 = 128 (Block siz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we get following details for the 192.168.10.0/25 subne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subnet: 192.168.10.0 to 192.168.10.1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net ID: 192.168.10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 ID: 192.168.10.1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able Hosts range: 192.168.10.1 to 192.168.10.126 i.e 126 usable IP addr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Subnet: 192.168.10.128 to 192.168.10.25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net ID: 192.168.10.1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 ID: 192.168.10.25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able Hosts: 192.168.10.129 to 192.168.10.254 i.e 126 usable IP addr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Subnetting (cont.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Subnetting (cont.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ctice: (Cont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&gt; Subnet Mask = 255.255.255.192 (/2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 Address range: 192.168.10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wer: Binary of 192 is 1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nc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any subnet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^x = 2^2 = 4             where x is the number of 1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any usable hosts per subne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^y-2 = 2^6-2 = 64-2 = 62         where y is the number of 0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valid subne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6-192 = 64 (Block siz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nderstand Networ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imple computer network for file sh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1" descr="Example of a simple network"/>
          <p:cNvPicPr/>
          <p:nvPr/>
        </p:nvPicPr>
        <p:blipFill>
          <a:blip r:embed="rId1"/>
          <a:stretch/>
        </p:blipFill>
        <p:spPr>
          <a:xfrm>
            <a:off x="609480" y="2514600"/>
            <a:ext cx="7925040" cy="335268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we get following details for the 192.168.10.0/26 subne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subnet: 192.168.10.0 to 192.168.10.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net ID: 192.168.10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 ID: 192.168.10.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able Hosts range: 192.168.10.1 to 192.168.10.62 i.e 62 usable IP addr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Subnet: 192.168.10.64 to 192.168.10.1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net ID: 192.168.10.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 ID: 192.168.10.1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able Hosts: 192.168.10.65 to 192.168.10.126 i.e 62 usable IP addr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Subnetting (cont.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actice: (Cont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subnet: 192.168.10.128 to 192.168.10.19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net ID: 192.168.10.1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ID: 192.168.10.19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able Hosts range: 192.168.10.129 to 192.168.10.190 i.e 62 usable IP addr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Subnet: 192.168.10.192 to 192.168.10.25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net ID: 192.168.10.19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ID: 192.168.10.25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able Hosts: 192.168.10.193 to 192.168.10.253 i.e 62 usable IP addr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So by /25 we lose 4 IP addresses and by /26 we lose 8 IP addr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Subnetting (cont.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ctice: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net Mask: 255.255.255.224 (/2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 address range: 192.168.10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we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net Mask: 255.255.255.240 (/2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 Address range: 192.168.10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net Mask: 255.255.255.248 (/2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 Address range: 192.168.10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Subnetting (cont.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ass B Address Subn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cti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&gt; Subnet Mask: 255.255.128.0 (/1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 address range: 158.144.0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wer: Binary of 128 is 10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nc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any subnet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^x = 2^1 = 2    (same as Class C)         where x is the number of 1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any usable hosts per subne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^y-2 = 2^15-2 = 32766-2 = 32764         where y is the number of 0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valid subne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6-128 = 128 (Block siz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Subnetting (cont.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we get following details for the 158.144.0.0/25 subne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subnet: 158.144.0.0 to 158.144.127.25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net ID: 158.144.0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ID: 158.144.127.25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able Hosts range: 158.144.0.1  to 158.144.127.254  i.e 32764 usable IP addr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Subnet: 158.144.128.0 to 158.144.255.25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net ID: 158.144.128.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ID: 158.144.255.25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able Hosts: 158.144.128.1 to 158.144.255.254 i.e 32764 usable IP addr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Subnetting (cont.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lass B Address Subnet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cti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&gt; Subnet Mask: 255.255.192.0 (/1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 address range: 158.144.0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&gt; Subnet Mask: 255.255.224.0 (/1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 address range: 158.144.0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&gt; Subnet Mask: 255.255.240.0 (/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 address range: 158.144.0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&gt; Subnet Mask: 255.255.248.0 (/2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 address range: 158.144.0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&gt; Subnet Mask: 255.255.252.0 (/2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 address range: 158.144.0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Subnetting (cont.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IP addressing and Vlan’s in TIF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v4 block assigned to TIFR: 158.144.0.0/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TIFR network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IP allocation to users in TIF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 Current IP database maintenance in TIF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. What is expected out of this projec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dlsl_0303"/>
          <p:cNvPicPr/>
          <p:nvPr/>
        </p:nvPicPr>
        <p:blipFill>
          <a:blip r:embed="rId1"/>
          <a:stretch/>
        </p:blipFill>
        <p:spPr>
          <a:xfrm>
            <a:off x="228600" y="406440"/>
            <a:ext cx="8686800" cy="51562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3962520" y="25146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/100 Ethernet Swit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Address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32 bit long and divided into 4 octets. Each octet is 8 bit or 1 byte long. Octets are separated by dots. Total IPv4 addresses available are around 4.3 Bill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IPv4 address is represented in decimal fo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Addressing  </a:t>
            </a: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etwork 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es of network were created based on network size. Following are the classes of networ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bits       8bits        8bits         8b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 A     Network  Host        Host         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 B     Network  Network  Host         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 C     Network  Network  Network   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 D     Multic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 E    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Addressing  </a:t>
            </a: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inary to decimal conver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          1         1          0         1          1        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x2^7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x2^6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x2^5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x2^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x2^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x2^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x2^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x2^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12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24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5" name="Straight Arrow Connector 8"/>
          <p:cNvCxnSpPr/>
          <p:nvPr/>
        </p:nvCxnSpPr>
        <p:spPr>
          <a:xfrm flipV="1">
            <a:off x="685440" y="304776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6" name="Straight Arrow Connector 9"/>
          <p:cNvCxnSpPr/>
          <p:nvPr/>
        </p:nvCxnSpPr>
        <p:spPr>
          <a:xfrm flipV="1">
            <a:off x="1752120" y="304776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7" name="Straight Arrow Connector 10"/>
          <p:cNvCxnSpPr/>
          <p:nvPr/>
        </p:nvCxnSpPr>
        <p:spPr>
          <a:xfrm flipV="1">
            <a:off x="2895120" y="304776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8" name="Straight Arrow Connector 11"/>
          <p:cNvCxnSpPr/>
          <p:nvPr/>
        </p:nvCxnSpPr>
        <p:spPr>
          <a:xfrm flipV="1">
            <a:off x="3809520" y="304776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9" name="Straight Arrow Connector 12"/>
          <p:cNvCxnSpPr/>
          <p:nvPr/>
        </p:nvCxnSpPr>
        <p:spPr>
          <a:xfrm flipV="1">
            <a:off x="4800240" y="304776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40" name="Straight Arrow Connector 13"/>
          <p:cNvCxnSpPr/>
          <p:nvPr/>
        </p:nvCxnSpPr>
        <p:spPr>
          <a:xfrm flipV="1">
            <a:off x="5714640" y="304776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41" name="Straight Arrow Connector 14"/>
          <p:cNvCxnSpPr/>
          <p:nvPr/>
        </p:nvCxnSpPr>
        <p:spPr>
          <a:xfrm flipV="1">
            <a:off x="6705360" y="304776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42" name="Straight Arrow Connector 15"/>
          <p:cNvCxnSpPr/>
          <p:nvPr/>
        </p:nvCxnSpPr>
        <p:spPr>
          <a:xfrm flipV="1">
            <a:off x="7619760" y="304776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p:transition spd="slow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Addressing  </a:t>
            </a: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twork Address Range: Class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rst bit of the first byte in a Class A networ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must always be off or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xxxxxx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turn the other 7 bits all off and then all on, w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the Class A range of Network addr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000000 =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11111 = 1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Addressing  </a:t>
            </a: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twork Address Range: Class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Class B network the first bit of the fir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te must always be turned on and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bit must always be turned off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turn the other 6 bits all off and then all on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ill find the range for a Class B networ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00000 = 1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1111 = 1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Pv4 Addressing  </a:t>
            </a: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twork Address Range: Class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Class C networks the first 2 bits of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byte as always turned on but the thi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t can never be on. Here is the range 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 C networ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1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0000 = 1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1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111 = 2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6T04:30:42Z</dcterms:created>
  <dc:creator>Rahul</dc:creator>
  <dc:description/>
  <dc:language>en-US</dc:language>
  <cp:lastModifiedBy>Rahul</cp:lastModifiedBy>
  <dcterms:modified xsi:type="dcterms:W3CDTF">2013-08-22T08:56:07Z</dcterms:modified>
  <cp:revision>50</cp:revision>
  <dc:subject/>
  <dc:title>Slide 1</dc:title>
</cp:coreProperties>
</file>