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6C8-510C-4B76-B8F2-2DEE6533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730-E968-4D37-84AB-D7D6C8B4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F4A-A7D2-4F1A-AB34-4DFBED82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1B2-D60B-41CC-9892-CB67129F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5E2C9-523B-45FD-A49B-F853D376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657C2-737E-4A54-9F1F-40A564F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A7603-3521-495F-BAA5-1CFCAFFB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5858B-C72E-41C2-8343-738D792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A3482-EA21-4B90-8A0E-A2A154E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6395F-6FDA-4807-B8E6-D01299F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A3A6C-7170-421A-865B-DEB8831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3A4-ED20-44F0-AF97-D21F9B01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2E584-5EF3-408C-B21E-EEB627B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8A03C-EC77-468F-924D-DAAD5CE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72E8-FBA4-459A-B132-93E99B3A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B5368-7040-4E1B-84BD-0E9108B8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7E8F9-7AFB-4C45-AAFA-3F55ABE9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F2F-9129-4ED6-814B-900BFE0F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D45-5F0D-4572-BFD4-30A62FD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0A4-4A5A-46C2-B172-31F52E4A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347-34AD-444C-B9C1-45464D01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809-ECEC-46A8-B3ED-230AB600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BCA-7497-42FD-9142-00E6E7D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4BF-DD32-4D69-A51A-72249CFD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36D6-4FB7-4714-90CF-2570956A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FE9-A364-4BBE-B528-82C98C0F77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90920" y="533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9480" y="1676520"/>
            <a:ext cx="65534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 IP Addressing (IPv4 and IPv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 Subn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ing and Vlan’s in TI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FR network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llocation in TI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IP database maintenance in TI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expected out of this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24-2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40-2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vate IP addres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          Reserved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A       10.0.0.0 to 10.255.255.2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B       172.16.0.0 to 172.31.255.2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C       192.168.0.0 to 192.168.255.2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eed for Subnet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bnetting IP Addr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ubnetting all you need to do is answer five simple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bnets does the chosen subnet mask produ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valid hosts per subnet are avail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subne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broadcast address of each subn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hosts in each subn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ubn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^x= number of subnets. X is the number of masked bits or the 1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11000000 = 2^2 = 4 sub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hosts per sub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^y = number of hosts per subnet. Here y is the number of unmasked bits or 0’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11000000 = 2^6 = 64 h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are the valid subn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6-subnet mask = block size or incremen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256-192 = 64 So the valid subnets are 0, 64, 128, 19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broadcast address for each subne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IP of each subnet is the broadcast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valid hosts in each subn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^y-2 = number of hosts per subnet. Here y is the number of unmasked bits or 0’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11000000 = 2^6-2 = 64-2 = 62 usable h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lass 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&gt; Subnet Mask = 255.255.255.128 (/2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=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Binary of 128 is 10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bne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x = 2^1 = 2             where x is the number of 1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usable hosts per subne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y-2 = 2^7-2 = 128-2 = 126         where y is the number of 0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subne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-128 = 128 (Block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e get following details for the 192.168.10.0/25 subn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subnet: 192.168.10.0 to 192.168.10.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net ID: 192.168.1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ID: 192.168.10.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le Hosts range: 192.168.10.1 to 192.168.10.126 i.e 126 usable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Subnet: 192.168.10.128 to 192.168.10.2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net ID: 192.168.10.1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ID: 192.168.10.2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le Hosts: 192.168.10.129 to 192.168.10.254 i.e 126 usable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: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&gt; Subnet Mask = 255.255.255.192 (/2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Binary of 192 is 1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bne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x = 2^2 = 4             where x is the number of 1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usable hosts per subne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y-2 = 2^6-2 = 64-2 = 62         where y is the number of 0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subne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-192 = 64 (Block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nderstand Networ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mple computer network for file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Example of a simple network"/>
          <p:cNvPicPr/>
          <p:nvPr/>
        </p:nvPicPr>
        <p:blipFill>
          <a:blip r:embed="rId1"/>
          <a:stretch/>
        </p:blipFill>
        <p:spPr>
          <a:xfrm>
            <a:off x="609480" y="2514600"/>
            <a:ext cx="792504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e get following details for the 192.168.10.0/26 subn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subnet: 192.168.10.0 to 192.168.10.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net ID: 192.168.1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ID: 192.168.10.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le Hosts range: 192.168.10.1 to 192.168.10.62 i.e 62 usable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Subnet: 192.168.10.64 to 192.168.10.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net ID: 192.168.10.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ID: 192.168.10.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le Hosts: 192.168.10.65 to 192.168.10.126 i.e 62 usable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: (Con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subnet: 192.168.10.128 to 192.168.10.1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net ID: 192.168.10.1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D: 192.168.10.1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ble Hosts range: 192.168.10.129 to 192.168.10.190 i.e 62 usable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Subnet: 192.168.10.192 to 192.168.10.2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net ID: 192.168.10.1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D: 192.168.10.2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ble Hosts: 192.168.10.193 to 192.168.10.253 i.e 62 usable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o by /25 we lose 4 IP addresses and by /26 we lose 8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: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Mask: 255.255.255.224 (/2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Mask: 255.255.255.240 (/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Mask: 255.255.255.248 (/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 B Address Subn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&gt; Subnet Mask: 255.255.128.0 (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Binary of 128 is 10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bne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x = 2^1 = 2    (same as Class C)         where x is the number of 1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usable hosts per subne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y-2 = 2^15-2 = 32766-2 = 32764         where y is the number of 0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subne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-128 = 128 (Block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we get following details for the 158.144.0.0/25 subn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ubnet: 158.144.0.0 to 158.144.127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ID: 158.144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ID: 158.144.127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ble Hosts range: 158.144.0.1  to 158.144.127.254  i.e 32764 usable IP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Subnet: 158.144.128.0 to 158.144.255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ID: 158.144.128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ID: 158.144.255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ble Hosts: 158.144.128.1 to 158.144.255.254 i.e 32764 usable IP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lass B Address Subn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192.0 (/1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224.0 (/1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240.0 (/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248.0 (/2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252.0 (/2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P addressing and Vlan’s in TIF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4 block assigned to TIFR: 158.144.0.0/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TIFR networ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IP allocation to users in TIF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Current IP database maintenance in TIF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What is expected out of this pro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lsl_0303"/>
          <p:cNvPicPr/>
          <p:nvPr/>
        </p:nvPicPr>
        <p:blipFill>
          <a:blip r:embed="rId1"/>
          <a:stretch/>
        </p:blipFill>
        <p:spPr>
          <a:xfrm>
            <a:off x="228600" y="406440"/>
            <a:ext cx="8686800" cy="5156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962520" y="25146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100 Ethernet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32 bit long and divided into 4 octets. Each octet is 8 bit or 1 byte long. Octets are separated by dots. Total IPv4 addresses available are around 4.3 Bill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Pv4 address is represented in decima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twork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of network were created based on network size. Following are the classes of networ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bits       8bits        8bits         8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A     Network  Host        Host        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B     Network  Network  Host        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C     Network  Network  Network  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     Multic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E    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inary to decimal conver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          1         1          0         1          1        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x2^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x2^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2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2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Straight Arrow Connector 8"/>
          <p:cNvCxnSpPr/>
          <p:nvPr/>
        </p:nvCxnSpPr>
        <p:spPr>
          <a:xfrm flipV="1">
            <a:off x="68544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6" name="Straight Arrow Connector 9"/>
          <p:cNvCxnSpPr/>
          <p:nvPr/>
        </p:nvCxnSpPr>
        <p:spPr>
          <a:xfrm flipV="1">
            <a:off x="175212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7" name="Straight Arrow Connector 10"/>
          <p:cNvCxnSpPr/>
          <p:nvPr/>
        </p:nvCxnSpPr>
        <p:spPr>
          <a:xfrm flipV="1">
            <a:off x="289512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8" name="Straight Arrow Connector 11"/>
          <p:cNvCxnSpPr/>
          <p:nvPr/>
        </p:nvCxnSpPr>
        <p:spPr>
          <a:xfrm flipV="1">
            <a:off x="380952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9" name="Straight Arrow Connector 12"/>
          <p:cNvCxnSpPr/>
          <p:nvPr/>
        </p:nvCxnSpPr>
        <p:spPr>
          <a:xfrm flipV="1">
            <a:off x="480024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0" name="Straight Arrow Connector 13"/>
          <p:cNvCxnSpPr/>
          <p:nvPr/>
        </p:nvCxnSpPr>
        <p:spPr>
          <a:xfrm flipV="1">
            <a:off x="571464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1" name="Straight Arrow Connector 14"/>
          <p:cNvCxnSpPr/>
          <p:nvPr/>
        </p:nvCxnSpPr>
        <p:spPr>
          <a:xfrm flipV="1">
            <a:off x="670536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2" name="Straight Arrow Connector 15"/>
          <p:cNvCxnSpPr/>
          <p:nvPr/>
        </p:nvCxnSpPr>
        <p:spPr>
          <a:xfrm flipV="1">
            <a:off x="761976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bit of the first byte in a Class A net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must always be off or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xxxx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turn the other 7 bits all off and then all on, w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the Class A range of Network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0000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11111 = 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lass B network the first bit of the fir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te must always be turned on an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it must always be turned off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turn the other 6 bits all off and then all 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find the range for a Class B networ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000 = 1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1111 = 1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lass C networks the first 2 bits of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byte as always turned on but the thi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t can never be on. Here is the range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C networ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000 = 1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111 = 2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04:30:42Z</dcterms:created>
  <dc:creator>Rahul</dc:creator>
  <dc:description/>
  <dc:language>en-US</dc:language>
  <cp:lastModifiedBy>Rahul</cp:lastModifiedBy>
  <dcterms:modified xsi:type="dcterms:W3CDTF">2013-08-22T08:56:07Z</dcterms:modified>
  <cp:revision>50</cp:revision>
  <dc:subject/>
  <dc:title>Slide 1</dc:title>
</cp:coreProperties>
</file>